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E64C-5EC0-4AB3-9018-3CD77F36C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7BB7-9FAA-45DB-AEDB-61AFC4E2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67C5-F45F-4A62-86ED-38A47DF9A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FCCA-5494-482C-922F-7D5829DF9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3BD4-BF8F-4DA6-9E8A-C91E4383A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CF7B-38D4-49A5-9D72-32C481CC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FBBC-65D3-4E32-A6C6-C4155F60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39CB-95D5-43F9-A555-51546836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AE68-00CA-4423-8ED8-2F934A23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482F-94F5-4722-8AFD-0DD0A152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126B-EECD-4955-BF4B-D745A2BB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7E93-6C0D-4FC7-871B-EADFC331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A32F-BC3F-42F7-96FF-8A5E72EB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927F-F243-4AE5-BDB5-ACE1D9A4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D14C-41E1-4401-9DDD-CBE74FAF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D58D-5461-4019-8117-8BE474479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245C-C7D5-40B0-8567-842E91921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36585F-B781-416D-B83B-721333671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FAC4C4-43F8-41D2-BCF8-C45D8899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23EBB4-0488-42E5-BEC1-E57A7603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9BE0D7-5A69-42A5-B643-651EEB47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EF199D-A216-4447-B87A-562F5C6A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7459-1ED1-4134-BE13-9774A3DD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3C2205-D826-4CDB-9727-F577D60D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9D8C97-7D5E-4C24-B059-632532D1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0C445E-1E34-4629-9DEC-B71834D1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C5349A-CAE7-4888-B967-3E705EB8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7AAD03-ED4A-4D61-9AAD-7357CEB5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D124FE-4AC0-4E5D-932E-F669055C4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AE6E94-A68A-4A44-B30F-80B1150F7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CA9E3-A839-48BB-9674-40EA3771B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D4C18-47AC-4883-AA43-03A97018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4D865-1201-4025-ADA8-66B3BF83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E855-3175-45D7-84AC-4F293662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B6D12-3E15-4BC3-AD76-39CE0590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8E88C-75D4-40C4-986F-C7CCECF1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56192-CCE7-4E4E-AE71-B9E2589B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7C840-8095-408B-842B-85498E73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45E54-289D-41AF-81E1-3458EBFB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ECE2B-71E5-4C5A-B40B-F1C2EB2F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C26A0-B820-4015-B931-9203BC9E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EB063-0712-45C3-B767-372D45862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A7846-C544-4168-BC5F-0C50A60B6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7EBD90-D53D-4E45-953A-7D1C321CC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6079-8BC1-4660-82B8-6DE74C9B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166FFF-6221-4EC0-B933-927F1F7A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D1E68A-BE60-4F48-962F-E72F9005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55A98D-3993-4276-B73E-69D075E9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108007-0F56-4A56-B716-69505A61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7D6B1B-241C-4751-B233-66D7B33A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C5A6D2-E87A-48DB-B397-87D748E9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21652C-4317-4E39-AB31-5E91C166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865819-1ABA-41E1-A698-51257A5C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35F03F-04D9-41F8-888F-D28A2E9D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85B8C0-D455-4E4A-861C-E841E6000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0B39-4E3C-42CC-9285-A05329A6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670BF9-060C-4959-A435-1133863B7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887100-79E1-487A-B87F-DB1D9FE9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B58392-C16B-4A47-8C1B-21614CC6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400060-1BC2-4188-B99D-A7D2C110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31565F-BB61-44D5-8A0B-B00A7BBB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795CDD-F4ED-4D45-8276-3BE42B09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AC5764-F8B9-4D9C-87BF-7B98A9D1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4B304C-3450-4147-9EC7-7990AA99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1ABBE5-6C53-4445-BE37-F69BA6FB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0D721F-9E2F-4906-A9C9-548966AC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3901-0C24-4614-A85D-83FF719D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5A6D7D-ACBF-4A35-B9E0-3B826309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9E0CB1-1CA0-488D-A211-691207832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4078D6-5652-44AF-A8F6-D4C623CEC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D72C05-AA02-4274-922C-257670011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760A8D-69B2-4D91-AFAA-0F3DEB18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1700E1-67A5-4BFE-B48F-E7C0AA36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9ACCFA-AD8F-4F6A-8CE1-52B2C8A8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63FF47-65BB-48BC-A2DB-69A91FED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5051B9-E16C-4F60-9FC1-2E38F64F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DD328D-EBB1-4488-A664-5EB94C28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1969-51EC-45BF-91CA-EC560B54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F52CDE-885B-44B8-B7F5-3724604C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3042E2-37F0-4091-99A6-5F4A868D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4C9F3F-DD1E-47D5-BF6D-437DBA5F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FE7227-ED9B-4D9F-80FA-0097A942E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E435F6-D1B1-4E25-963D-61FAA059D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FCC2-CAAF-4655-BB21-6A99471E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1BF3-897C-429A-B8F3-8156DAD4B01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24A0-1166-474F-B1EC-9F1D91628C9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1D2C-3F8A-4FED-A041-68066C21D9B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1E32-F8E6-4218-A95D-3C7D8D4223B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E302-E00A-4BF0-B9FB-B8909BC6CDF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876E-0F77-4DE3-9D72-4170BC1FE10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B665-7273-4F1B-A77D-07903935379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1219320"/>
            <a:ext cx="6172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5f6d"/>
                </a:solidFill>
                <a:latin typeface="Century Schoolbook"/>
              </a:rPr>
              <a:t>IMPERSONAL EXPRESSIONS + INFINITIVE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entury Schoolbook"/>
              </a:rPr>
              <a:t>Page 128 – Avancemos 3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5f6d"/>
                </a:solidFill>
                <a:latin typeface="Century Schoolbook"/>
              </a:rPr>
              <a:t>IMPERSONAL EXPRESSIONS + INFINITIVE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In English, as in Spanish, you can use impersonal expressions with infinitives to state an opinion or to make indirect or subtle suggestions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5f6d"/>
                </a:solidFill>
                <a:latin typeface="Century Schoolbook"/>
              </a:rPr>
              <a:t>IMPERSONAL EXPRESSIONS + INFINITIVE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It’s important </a:t>
            </a:r>
            <a:r>
              <a:rPr b="1" lang="en-US" sz="4000" spc="-1" strike="noStrike">
                <a:solidFill>
                  <a:srgbClr val="b32c16"/>
                </a:solidFill>
                <a:latin typeface="Century Schoolbook"/>
              </a:rPr>
              <a:t>to tell </a:t>
            </a: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the truth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entury Schoolbook"/>
              </a:rPr>
              <a:t>Es importante </a:t>
            </a:r>
            <a:r>
              <a:rPr b="1" lang="es-ES" sz="4000" spc="-1" strike="noStrike">
                <a:solidFill>
                  <a:srgbClr val="b32c16"/>
                </a:solidFill>
                <a:latin typeface="Century Schoolbook"/>
              </a:rPr>
              <a:t>decir</a:t>
            </a:r>
            <a:r>
              <a:rPr b="1" lang="es-ES" sz="4000" spc="-1" strike="noStrike">
                <a:solidFill>
                  <a:srgbClr val="000000"/>
                </a:solidFill>
                <a:latin typeface="Century Schoolbook"/>
              </a:rPr>
              <a:t> la verdad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5f6d"/>
                </a:solidFill>
                <a:latin typeface="Century Schoolbook"/>
              </a:rPr>
              <a:t>IMPERSONAL EXPRESSIONS + INFINITIVE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To state an opinion, or to suggest that something should be done without indicating who should do it, use an impersonal expression plus an infinitive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5f6d"/>
                </a:solidFill>
                <a:latin typeface="Century Schoolbook"/>
              </a:rPr>
              <a:t>IMPERSONAL EXPRESSIONS + INFINITIVE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Impersonal expressions combine the </a:t>
            </a:r>
            <a:r>
              <a:rPr b="1" lang="en-US" sz="4000" spc="-1" strike="noStrike">
                <a:solidFill>
                  <a:srgbClr val="b32c16"/>
                </a:solidFill>
                <a:latin typeface="Century Schoolbook"/>
              </a:rPr>
              <a:t>usted/él/ella</a:t>
            </a: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 form of the verb </a:t>
            </a:r>
            <a:r>
              <a:rPr b="1" lang="en-US" sz="4000" spc="-1" strike="noStrike">
                <a:solidFill>
                  <a:srgbClr val="b32c16"/>
                </a:solidFill>
                <a:latin typeface="Century Schoolbook"/>
              </a:rPr>
              <a:t>ser</a:t>
            </a: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 and an </a:t>
            </a:r>
            <a:r>
              <a:rPr b="1" lang="en-US" sz="4000" spc="-1" strike="noStrike">
                <a:solidFill>
                  <a:srgbClr val="b32c16"/>
                </a:solidFill>
                <a:latin typeface="Century Schoolbook"/>
              </a:rPr>
              <a:t>adjective</a:t>
            </a: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(The verb ser can be in any tense.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5f6d"/>
                </a:solidFill>
                <a:latin typeface="Century Schoolbook"/>
              </a:rPr>
              <a:t>IMPERSONAL EXPRESSIONS + INFINITIVE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56236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5f6d"/>
                </a:solidFill>
                <a:latin typeface="Century Schoolbook"/>
              </a:rPr>
              <a:t>IMPERSONAL EXPRESSIONS + INFINITIVE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Add the </a:t>
            </a:r>
            <a:r>
              <a:rPr b="1" lang="en-US" sz="4000" spc="-1" strike="noStrike">
                <a:solidFill>
                  <a:srgbClr val="b32c16"/>
                </a:solidFill>
                <a:latin typeface="Century Schoolbook"/>
              </a:rPr>
              <a:t>infinitive</a:t>
            </a: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 to state your opinion: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entury Schoolbook"/>
              </a:rPr>
              <a:t>Es malo </a:t>
            </a:r>
            <a:r>
              <a:rPr b="1" lang="es-ES" sz="4000" spc="-1" strike="noStrike">
                <a:solidFill>
                  <a:srgbClr val="b32c16"/>
                </a:solidFill>
                <a:latin typeface="Century Schoolbook"/>
              </a:rPr>
              <a:t>presentar</a:t>
            </a:r>
            <a:r>
              <a:rPr b="1" lang="es-ES" sz="4000" spc="-1" strike="noStrike">
                <a:solidFill>
                  <a:srgbClr val="000000"/>
                </a:solidFill>
                <a:latin typeface="Century Schoolbook"/>
              </a:rPr>
              <a:t> información falsa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0000"/>
                </a:solidFill>
                <a:latin typeface="Century Schoolbook"/>
              </a:rPr>
              <a:t>It’s bad </a:t>
            </a:r>
            <a:r>
              <a:rPr b="1" i="1" lang="es-ES" sz="4000" spc="-1" strike="noStrike">
                <a:solidFill>
                  <a:srgbClr val="b32c16"/>
                </a:solidFill>
                <a:latin typeface="Century Schoolbook"/>
              </a:rPr>
              <a:t>to present </a:t>
            </a:r>
            <a:r>
              <a:rPr b="1" i="1" lang="es-ES" sz="4000" spc="-1" strike="noStrike">
                <a:solidFill>
                  <a:srgbClr val="000000"/>
                </a:solidFill>
                <a:latin typeface="Century Schoolbook"/>
              </a:rPr>
              <a:t>false information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5f6d"/>
                </a:solidFill>
                <a:latin typeface="Century Schoolbook"/>
              </a:rPr>
              <a:t>IMPERSONAL EXPRESSIONS + INFINITIVE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entury Schoolbook"/>
              </a:rPr>
              <a:t>Fue bueno </a:t>
            </a:r>
            <a:r>
              <a:rPr b="1" lang="es-ES" sz="4000" spc="-1" strike="noStrike">
                <a:solidFill>
                  <a:srgbClr val="b32c16"/>
                </a:solidFill>
                <a:latin typeface="Century Schoolbook"/>
              </a:rPr>
              <a:t>entrevistar</a:t>
            </a:r>
            <a:r>
              <a:rPr b="1" lang="es-ES" sz="4000" spc="-1" strike="noStrike">
                <a:solidFill>
                  <a:srgbClr val="000000"/>
                </a:solidFill>
                <a:latin typeface="Century Schoolbook"/>
              </a:rPr>
              <a:t> al director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entury Schoolbook"/>
              </a:rPr>
              <a:t>It was good </a:t>
            </a:r>
            <a:r>
              <a:rPr b="1" i="1" lang="en-US" sz="4000" spc="-1" strike="noStrike">
                <a:solidFill>
                  <a:srgbClr val="b32c16"/>
                </a:solidFill>
                <a:latin typeface="Century Schoolbook"/>
              </a:rPr>
              <a:t>to interview </a:t>
            </a:r>
            <a:r>
              <a:rPr b="1" i="1" lang="en-US" sz="4000" spc="-1" strike="noStrike">
                <a:solidFill>
                  <a:srgbClr val="000000"/>
                </a:solidFill>
                <a:latin typeface="Century Schoolbook"/>
              </a:rPr>
              <a:t>the director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entury Schoolbook"/>
              </a:rPr>
              <a:t>Era interesante </a:t>
            </a:r>
            <a:r>
              <a:rPr b="1" lang="es-ES" sz="4000" spc="-1" strike="noStrike">
                <a:solidFill>
                  <a:srgbClr val="b32c16"/>
                </a:solidFill>
                <a:latin typeface="Century Schoolbook"/>
              </a:rPr>
              <a:t>escuchar</a:t>
            </a:r>
            <a:r>
              <a:rPr b="1" lang="es-ES" sz="4000" spc="-1" strike="noStrike">
                <a:solidFill>
                  <a:srgbClr val="000000"/>
                </a:solidFill>
                <a:latin typeface="Century Schoolbook"/>
              </a:rPr>
              <a:t> las entrevistas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entury Schoolbook"/>
              </a:rPr>
              <a:t>It was interesting </a:t>
            </a:r>
            <a:r>
              <a:rPr b="1" i="1" lang="en-US" sz="4000" spc="-1" strike="noStrike">
                <a:solidFill>
                  <a:srgbClr val="b32c16"/>
                </a:solidFill>
                <a:latin typeface="Century Schoolbook"/>
              </a:rPr>
              <a:t>to listen </a:t>
            </a:r>
            <a:r>
              <a:rPr b="1" i="1" lang="en-US" sz="4000" spc="-1" strike="noStrike">
                <a:solidFill>
                  <a:srgbClr val="000000"/>
                </a:solidFill>
                <a:latin typeface="Century Schoolbook"/>
              </a:rPr>
              <a:t>to the interviews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5f6d"/>
                </a:solidFill>
                <a:latin typeface="Century Schoolbook"/>
              </a:rPr>
              <a:t>IMPERSONAL EXPRESSIONS + INFINITIVE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entury Schoolbook"/>
              </a:rPr>
              <a:t>Va a ser difícil </a:t>
            </a:r>
            <a:r>
              <a:rPr b="1" lang="es-ES" sz="4000" spc="-1" strike="noStrike">
                <a:solidFill>
                  <a:srgbClr val="b32c16"/>
                </a:solidFill>
                <a:latin typeface="Century Schoolbook"/>
              </a:rPr>
              <a:t>cancelar</a:t>
            </a:r>
            <a:r>
              <a:rPr b="1" lang="es-ES" sz="4000" spc="-1" strike="noStrike">
                <a:solidFill>
                  <a:srgbClr val="000000"/>
                </a:solidFill>
                <a:latin typeface="Century Schoolbook"/>
              </a:rPr>
              <a:t> la teletón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entury Schoolbook"/>
              </a:rPr>
              <a:t>It’s going to be difficult </a:t>
            </a:r>
            <a:r>
              <a:rPr b="1" i="1" lang="en-US" sz="4000" spc="-1" strike="noStrike">
                <a:solidFill>
                  <a:srgbClr val="b32c16"/>
                </a:solidFill>
                <a:latin typeface="Century Schoolbook"/>
              </a:rPr>
              <a:t>to cancel </a:t>
            </a:r>
            <a:r>
              <a:rPr b="1" i="1" lang="en-US" sz="4000" spc="-1" strike="noStrike">
                <a:solidFill>
                  <a:srgbClr val="000000"/>
                </a:solidFill>
                <a:latin typeface="Century Schoolbook"/>
              </a:rPr>
              <a:t>the telethon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3T23:07:03Z</dcterms:created>
  <dc:creator>Suzanne</dc:creator>
  <dc:description/>
  <dc:language>en-US</dc:language>
  <cp:lastModifiedBy>Suzanne</cp:lastModifiedBy>
  <dcterms:modified xsi:type="dcterms:W3CDTF">2009-10-03T23:22:23Z</dcterms:modified>
  <cp:revision>1</cp:revision>
  <dc:subject/>
  <dc:title>Impersonal Expressions + Infinitive</dc:title>
</cp:coreProperties>
</file>